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8E5-4513-46A8-AE0B-CA65BDFC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A7D-E4EB-4CD8-B6FA-051DF42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2AD-4626-45C2-8751-5029E743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B7F-33BB-4FFD-98C4-F242337C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2F3-102D-4DD0-A7D1-B431094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921-0B5B-4855-AEC3-9DC19C2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D56-5607-442E-B5CA-8F6D785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F4E-14AE-4C7E-A87B-65E2AAAA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229-7F43-4319-BC0E-64A259E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EE7-D023-4AF1-9DF6-CABD0AC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697-42DC-4AE2-89C8-1C9295C1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75D-383A-4A9A-A701-0A11388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C2E-F33A-419B-B6E6-DC391000019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360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907920"/>
            <a:ext cx="5113440" cy="74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0"/>
            <a:ext cx="448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0560" y="620640"/>
            <a:ext cx="5113440" cy="72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في القربانِ أعطِ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 نلقاك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396720" y="0"/>
            <a:ext cx="44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حنُ بن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511344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رجوكِ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907920"/>
            <a:ext cx="5113440" cy="10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ف</cp:lastModifiedBy>
  <dcterms:modified xsi:type="dcterms:W3CDTF">2006-09-18T10:12:17Z</dcterms:modified>
  <cp:revision>6</cp:revision>
  <dc:subject/>
  <dc:title>Slide 1</dc:title>
</cp:coreProperties>
</file>